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A2F7-871C-4DBA-B0BD-8E459982B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FBDA-5D0C-43C9-A486-7146BD375B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662-3F5F-41FD-A932-B559B1F0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84D-0E3A-4FEF-9EEC-AE7BD137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263-7D36-45FD-B49E-8409650D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1AB-0CCA-4C88-89E1-681CC6C3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155-0F1B-490E-998F-9B2DB8C9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3F5-BE45-4B6B-BE99-25494D80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7A9-8C23-4156-AC4F-D9919862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D72-D4E6-4148-AAA8-8A22AE5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719-EAD4-4343-BCCF-487F763F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155-7295-44E2-B416-56379BE3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C18-1E47-435C-AF27-8F0C4B9D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572-86F9-4DAD-91AF-9249AD6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B19D-4BC6-4937-8509-29175DDE9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u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30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3 – Questions fo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agnetism?  What are magnetic fields?  What are magnetic poles?  What are magnetic doma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static electricity?  What happens when static charges inter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quired to create a simple circuit?  What is the difference between series and parallel circui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chemica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nergy transformation occurs in electrochemical cells?  What are the 3 parts of a cell?  What are the two types of cells we made and how were they different?  What is formed when 2 or more cells are connected in se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n electromagnet?  What is the principle behind the creation of electromagnets?  What is the difference between a permanent magnet and an electromagnet?  What are the variables which can change the strength of an electromag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TURN IN HOMEWORK – INDIVIDUAL PLAN for EGG DR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3 RE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Magaz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DUE TOMORROW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FD034B36-D18F-4005-B1AA-B14939DC65AE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Explain the important understandings related to electricity and magnetism covered during the last 3 weeks of lessons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3 RE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u may use your notes, worksheets, textbooks, and websites on the science links pag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Magaz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magazine from the front table when you turn in your quiz 3 re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answer any questions you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lab activities, you may try them at home, but for the class period…predict what would happen using what you have learned during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31120" y="4800600"/>
            <a:ext cx="163656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4876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440" y="14914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lectromagnet Fishing Pole Proj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UE TOMORRO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9:56:45Z</dcterms:created>
  <dc:creator>CCPS</dc:creator>
  <dc:description/>
  <dc:language>en-US</dc:language>
  <cp:lastModifiedBy>CCPS</cp:lastModifiedBy>
  <dcterms:modified xsi:type="dcterms:W3CDTF">2010-03-29T19:57:10Z</dcterms:modified>
  <cp:revision>1</cp:revision>
  <dc:subject/>
  <dc:title>Slide 1</dc:title>
</cp:coreProperties>
</file>